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172-F531-4095-B1D9-70557D11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BF7-A91C-42F3-B289-0AB4C492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507-8E47-47CE-A1C2-ABBE4709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DE9-25A8-406A-9EE5-0ADD442F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512C-5676-4AFE-8F2A-500F9326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A8AF-CE42-4686-A490-D4E8CA1D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0EC5-E6E3-41A2-BBFC-CB245625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F775-761C-402E-BA5A-A29525BA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993E-8A43-42C2-9944-5B18856D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BDB2-0DBF-4310-9EC2-04237304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1C13-72E0-471B-8EC6-E1750575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27B-FAD9-4294-827D-3692E72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E9A1-D7F1-4A8B-A621-97579E40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9C33-5649-45C1-8A6C-2A20B7B8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A3B3-C22C-44BE-ACF4-BEC5599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ACF5-9EC0-40E9-9607-5CD40D8C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D3E0-2992-436D-8A94-9E82EDF2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37E-08EB-4947-9B7D-525A6BCF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E71-3D5C-46D2-8272-88585D56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5C9-5BC8-4CDB-9C0A-190A87BD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D67-EA23-4EBC-A151-CC286FDC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87B-E998-454D-B227-BDBCEF5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B9E-6E7B-46AA-8608-19B783B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D80-8DAD-4CDD-9670-64A0CDF9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E716-4CE9-4723-9AF9-A5230153D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7E2A-64D6-482D-B632-025DE236AA3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ilosophy of Edu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are the heart of philoso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world really lik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 do we know someth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teach something?  To learn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 should we treat each other?  What is valuabl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’s the best way of governing and arranging societ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does it mean for something to be beautifu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there a correct way to reason?  What is reason anywa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ilosophical specialties have arisen to deal with thes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phys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stem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philosop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origin of Western Philoso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r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ble of the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does all this matter to teacher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answers to the questions of philosophy influence how we think about schools and our classroo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hilosophy of education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purpose of schooling?  Of edu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ought we to tea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should we teach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should we treat our students?  How doe we expect our students to treat u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hilosophical questions in other discipli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it mean to know someth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humans have free wi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re an essence to all  human being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crete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fair to treat students different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ole of the state in providing equal education for a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 student who fails a test be said to know less than a student who pas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you really grade a student’s art project or musical composi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a student’s culture influence how they do their assignments and how they are assess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48:46Z</dcterms:created>
  <dc:creator>popen</dc:creator>
  <dc:description/>
  <dc:language>en-US</dc:language>
  <cp:lastModifiedBy>Thiry-Wenz, Andrea</cp:lastModifiedBy>
  <dcterms:modified xsi:type="dcterms:W3CDTF">2011-09-19T20:16:27Z</dcterms:modified>
  <cp:revision>3</cp:revision>
  <dc:subject/>
  <dc:title>Philosophy of Education</dc:title>
</cp:coreProperties>
</file>